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448-F0A6-4A70-86FF-10F1030E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5E7-AF15-44FF-99AC-8FDCB2A6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6CBFD-B672-444A-B8D4-3AB20B45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D4F5A-04BA-44DD-92F4-FB9834D5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C7366-EA78-491E-B5EE-191D2103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09422-22CB-4F60-9B24-7D784D07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426A7-F98B-43C0-A339-9B8606C0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41BA9-C69E-463E-B5F7-1623493F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932ED-4996-4713-9963-D77288FB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48C6B-2BBE-40D5-8A06-AAD5EEE7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A320B-CC41-4A0E-AABD-A159CA69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62095-F314-41B3-84B9-137D6F5C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037-71A6-4179-9BE8-D2938A04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D6B99-02F8-4B84-B34D-E00ECED8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B695E-7779-4C8D-A3EA-9F7DF496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31CDE-3D41-423B-B94C-55294EA3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CE626-39C6-4D8A-8CC5-573EC515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DFE1B-9497-4A71-9AD2-2F488CCF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C6E25-0E57-4376-974B-6BE3726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4752D-2674-4243-8A20-CCA823BE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31FCB-5C46-4FA6-9DEA-A80697C9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DAFC2-5519-4EFD-99EA-52AF4865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D63AD-51D2-4763-AD3F-49026FE1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F88-8971-4DE1-99B9-53095DFF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ECF8D-CC49-42A7-9B3C-F8B9693D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16F4B-140F-43E0-B8B1-27072D4C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2F07F-4A6D-41F3-8477-042EE178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5AF26-CBDA-45C3-B6F2-C773BD9C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8FFA5-0589-4C21-BF2F-9FC4345A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E4049-9A22-45A3-AA6A-5E3FFCD9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D8F92-8B96-4AD8-B623-BE5A83CD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9B0FC-E7CF-4181-A074-4431C7E7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8BF5A-4D20-4392-BAD4-268E8CEB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A0E5C-03F2-46AB-B542-308E5802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5B01-9E49-474D-8295-983F447C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77591-99B1-44A2-A8EE-2860A181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6AF38-2558-4A77-80BD-6AFB2369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C32D5-B73C-4AB7-8550-2C12CA81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D2D5B-F574-48A6-A8CF-6D647DC4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7B3EE-1F4A-4246-ACD4-2897F966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A402D-0ED2-46A4-8864-F94BA8E8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4D55B-293D-40CE-8209-829E86B7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7C1CF-3D64-411D-8313-9CE27869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879EE-BD39-468F-BC3E-031D33FD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2B9AF-6D6B-4B14-8791-88AD61C1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B4E3-6920-4A04-AF26-508BC7E4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0D9AB-CEF8-4F1A-A4D8-74C27C4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617C2-7F24-47AD-B56F-98D6083B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B61F3-E3BA-482C-A4CC-13C6FCF6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16BB8-ECC7-4427-8F75-FEA97432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267A1-C064-4F5D-95F1-5D67DA3A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4BA70-DCDF-4FC5-B52C-8E147BCB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D9CF8-2F22-449F-AF89-4EC42839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D4D17-C850-47F0-ABC4-A2917DE3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BBCD1-8F64-41B5-B524-24CDDFC7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59FCA-0B3B-4185-9A7C-80DA9945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F172-E905-49D7-9A13-F5161120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92730-CB53-43C2-8C53-F775D696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8004F-D7C6-4BA1-A2B1-82E4BCFA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3D237-05E6-4D06-9E61-7D2557CC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29AD6-9CA1-486B-BC64-312FB25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8ED46-68A2-4C11-B714-61E404F1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D1D60-F71E-4334-A313-FB390C18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4478B-E2CC-4558-B014-E973E3B7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25FCD-71F4-467C-9488-BEFB247F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92775-00F1-46D2-BE32-8D069793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D23BE-DCCD-4477-A507-478F32CC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FEA0-BED8-4365-ACB1-40B66F9C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87BA2-A2C3-4630-B107-F69D7749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5F0E5-C3BC-4B8B-B321-94392855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91477-2073-471A-8230-101A5437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718F2-ED78-4905-B18B-76B44F18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6C406-6C21-495D-80E8-F8310FE4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C83B5-AC0C-4601-93DA-7CD70B0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82B5B-1078-40D3-A3BA-D3656409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DD307-71E4-4684-A9CA-349C04DA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755BC-73B3-4363-85F1-08914902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C811B-3F2B-4F40-B2AD-F2DB64BC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5390-1EBE-4EC1-BD16-7CB95883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5A759-EC8D-4AB8-880D-24E83730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9ED4C-AF0F-4A28-B303-CB1D8B2D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852E3-198B-4792-A435-9403F3F8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34E79-8A03-4479-BF22-60A0E176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D6EDD-77DC-4F9B-8692-8947E533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4F180-69DE-4E5A-9594-14E0AC76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3270C6-83F7-4317-9A2B-754124F5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04AA1-4027-432C-B7B6-E032C8BD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66371-60A4-4BAE-99C0-302A8D14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98FC9-3213-4808-9409-27F4E8CE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7AFE-CBE2-4DBA-A663-110BF97F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40DA59-60EC-436F-9BD9-1160C773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94CBE-08EC-4B9D-A097-1309AD81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81D9F-463D-4E92-A023-0F721E5F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8681C-6756-4810-B4BE-0C5A9BEF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0B5CE-992A-44B8-8E2C-D4D8C6E4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18655-3D75-4918-A7DF-0879D192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A1C14-ECDB-4EC6-9B00-BA1765C5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C9AD0-29F8-4B0C-B0F6-3DAC3FA8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C35D6-D576-41B5-97E7-411F6C31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35411-ACEA-4E71-B654-56138C40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54A7-F58A-40EF-85E1-4F28C846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48CBF8-BC68-48CA-BEC3-9DCF97ED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A98B4-554D-4B73-B031-71680EB8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DC5BF-132C-4122-9FC8-884D9498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DB0A2-54AB-4E61-88AC-A1925362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10E9A-33DA-42CE-841E-052E2262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0B4041-7650-47D4-A366-FA4F8B1F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7DF4C-B7F3-456E-BA63-9CF7EC9F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6C776-CF41-4795-89FC-08959096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A279E-69F5-4EDC-8DEF-E0FD69AC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52DC0-8981-430A-B307-0C56991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E5F-C8D9-4996-9266-034B3D39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AF89-71A6-45CD-B8BF-AE1B847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1A154-2991-437C-BB56-04104A12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93FE0-16E4-4357-8F3A-180C8D40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FA869-200E-487B-B09B-55792F0A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C2621-B1C8-44A6-B914-D99BB17D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76CCB-8886-46C9-AB88-54EE709D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D9816-405B-4778-8D8D-7F0AF46B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3440EB-CB87-40B8-A236-BA26C6AA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DCA99F-3AC6-452B-9504-6DE8237F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138CA-AFA7-4466-9DBD-BEB0F625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B9757-1E0B-4F14-A8D4-D632310F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3E27-1ED1-45A0-B180-9BD8C9E1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E618E-7B7A-4943-A397-DBB6F00E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03FAA-B0F6-4081-97A7-ABACB579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E8AD32-7754-4973-946D-02CCFF42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408F8-0289-4F65-B11B-52C0C95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BB2B0-C1C1-491C-B2E8-D5A18C49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FF8F8-8F7C-425F-BD43-A84F0ADE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D354E-75B0-4BD2-95D8-0845F009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E793E2-BA3E-4886-AFA1-F79167A7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F85E5-93B4-41A2-9A65-32C5C792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35900-2089-45EF-A738-0D271F41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B068-C31C-4AAD-9C41-E13BFB96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F0E252-9BC7-42C3-8960-B930B70C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C59395-98BE-4EDF-BDDF-DE9AD82D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6290AD-47F7-4990-8802-379FFC38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A42C1-76CB-4762-9BB8-8B9EB56C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185067-DC68-4257-AD2B-94857A8F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F6E582-C279-4DA2-A417-3AF505D6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1B9BC-9C5A-4EC6-A72B-A1AEBB54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88332-BF3F-4F3E-917B-2E3D460D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37D52-65F3-4ECB-B244-7F96079E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4E9F2-B470-4DD4-B429-A1F4B839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323-0977-4C24-91E2-E5DFA338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71082-2C9A-4B52-9CFA-841A5052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FCC7BA-49A2-4C93-82E5-D3E745DA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00CD42-1E1F-4204-B081-73851EE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9A2E96-EFCB-42AB-B5C0-FDCC177B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B4A56-C648-4413-A85F-366FED44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7CAEC-5200-4B9F-BB41-B8F65385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EF83D5-585A-4F9C-96A0-55A46FAE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176E82-BA4C-4307-8116-4603BBFF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2E185-8F4C-4FE0-A661-6A8D0BC4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238E8B-178C-453E-8EFB-1F8B0394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E9CF-D0C0-4CD6-87D5-F32FB127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978B0-34EC-4CF4-B5E0-8122DFE2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AA3CAB-91AC-46F7-AC89-BFC232F4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D0908F-2F64-42C4-968C-CFDF13F1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32DF06-98B3-45B3-9EA9-0D0BC9AB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5AD481-385D-4679-BA73-0DE9395D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8FD07A-643A-4B50-B0FA-35D1BA4B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71E0F9-CC3D-47D9-B114-90AFBFDC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ACC515-649B-4713-A2EF-15E3DBD0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BEF8B4-C79E-4328-BFF6-9DDBA17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C0300-F158-4320-8527-8DF3BEAE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4476D-2B2C-4888-920A-2945727F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7CDB8D-3DAF-4C34-BA24-23508D4A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98C393-2D6E-4183-A9FB-3E02C787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BA7E4-4A8A-497B-B8B6-5E1C1D68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E6A170-B137-40F9-8DAB-CE56E48B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836316-98BA-41A7-AC54-8D9907B5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5E17E8-5A0B-4295-9429-7FBFDD15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396A11-5592-4E08-B85E-F90E75C6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349AA8-3A7E-4408-93D6-700787FC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408075-728F-461F-8769-1FFA4142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B966C3-335D-4ECC-99FA-81DB89E9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964B-BA1F-47CD-8D7F-03A6D5D2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1975DE-2EE2-4844-8C40-75EF732A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7CFB18-98AC-4B6C-864F-E15D476C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CF4F84-0239-43D3-9907-E438DFD0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3376CD-1B39-4035-8B41-C823417A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A041D4-BEF5-48A4-9D0B-CB201E1B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2AB78A-1C60-44C8-B7AC-BDCC3CF4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0891CE-3D7C-4E6C-8242-70D13B6B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C6A489-FE40-4E84-8B18-D155CD10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ADBBA3-403F-4668-B287-3EDD720F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ECBC99-D255-4051-BB52-B901C479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F581-8B42-49A4-BC22-4F86B9A3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4253BE-964A-485A-9CAD-3BDDC5D4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7130D1-F1D0-4A20-8A5C-F5C4A74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5DF645-66D5-472B-86E8-A1C1BE25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16FB88-B07A-42CA-A8CC-F062F5F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6627EA-76E4-47E1-BCFC-501D5315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A553DD-9756-4CB5-8776-18379128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F325EC-0662-4C19-B8C4-DC0315CE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F115BB-9B20-443C-B3C5-631B6E66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D94728-F146-4412-85D9-CEA2C215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BD5EB0-1C64-43EB-AAE2-05AE68D6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A38A-D639-4DDD-BD72-93CE50C5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906BE8-812A-418D-9D52-E1D0F0DA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1D2889-2AFC-4975-B2B4-D810F730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5AFDD8-AE33-4B59-861B-D6E68F43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46526D-B18E-4993-96E6-3B900DCD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8CE85F-13C9-4709-80C8-DDAA1FFF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2E0AA7-778D-49BB-83D5-52F13263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1620B8-E015-49D4-8228-CB382608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DBF29E-3FCB-4ABC-B943-F3919018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5EDBAE-829D-43B7-BF8C-02E8C917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B50BE0-7195-4323-8A06-113B0356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E25E-E527-4595-941A-C7979566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39EC35-AFB7-4104-BCB0-CF590949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46AF74-7D71-4E0C-A420-39FDAF28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C110E7-8094-4D03-81BA-A9C19202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F35C9C-8713-418D-A175-C34D1F36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6288AF-412C-42ED-95E0-B25327E4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E00347-B075-4B42-B913-0AEB914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3C7B16-E9BB-42C5-BBEA-5E372F93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72F601-1FFB-4C70-950E-B8068B1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568205-6D20-4E07-A829-1F8C0A4D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72FDAD-BFE8-4877-9BC9-81A4AA44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C78-BEEF-4D94-AA2D-7F43A923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E090-9FD1-4A9C-B354-6ECB4077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9C9FF6-43E8-4EAE-A08D-FDAB2A0B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EDFE79-8E78-45B3-88A7-4B159FAD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DD5665-2E06-4D73-82CF-320BA835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3FB38F-B7E5-47F5-9BFA-7C929510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EBA51A-4097-4564-995C-54F96026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424019-7184-42CD-A9A2-9EE76E68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8C1562-4D39-4074-89DD-ED045008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166640-4130-4218-8579-3A5C2BBA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F635F1-1BE2-4448-8962-BF4E103F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4FC27A-6BB1-4134-B5D9-19644337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4516-9DD6-4600-9DAB-33C878FF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49EEC0-6ACE-493D-A44A-70620953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5BB3CB-FFBF-4D18-A937-E5666921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2A0067-92BA-4483-B946-F3BDE514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9E7F3C-E42E-4F8D-A872-50114A21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5636D6-896A-4674-A02A-F65FB0B6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560908-59DC-4A27-B976-D2046E3B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CF38A9-D5B5-4EE3-BE9B-0C3FFA38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DECF3C-C427-4C74-8B32-D5A36A8A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5EA2CC-B420-4C19-89B8-6B66F45D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318C83-5A5C-4718-8BEE-A5FC4E17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9368-F164-4805-A601-4978AA0C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45C9F3-E509-4F7C-8616-DF41B85C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2FB303-855B-434E-BBB7-5964FE23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B4E06B-3D6D-47D0-AC7F-03E0C823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4141F3-A9D0-4FDA-8FF5-7B7892F0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6FEDEF-C56A-45AB-AA25-B7CD0079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2F0B87-96C7-4C0E-9AAD-C70DC925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4C631A-FD09-4FDB-AA2C-055ABC9C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D8FFB5-EFAF-43E3-9830-20102A39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A9E88C-C7F8-4DC6-9D1F-095304D4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136E82-FAE9-4CA3-A00F-1C715CE0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9F7E-D78D-4AA4-B7A2-6EBC285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2B2927-1FA9-44CF-BBC0-9ECE402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761C7D-6643-4CC7-A490-A5520419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9B2C4A-BC3E-4E3C-9D2B-33FFED47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4F5D02-212C-40DA-9E74-24AA3143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85F9DD-7E07-4177-BF4E-E50E2E3B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7A6DAB-EB9B-4554-B73E-59578FA0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EABCE6-EFAB-409C-AFEA-D1CA05BC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E95257-494D-4A03-8A93-73F45282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C15230-D590-4D28-9D1A-91ACC094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F9E002-502C-487D-BF2B-62E3E139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94B6-AB12-45D3-9E62-F8EE534D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8CDA4E-59E5-4F97-92DD-9AB3BDCD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6FA014-08A5-4E62-AEB5-0E767BB4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0D8E3F-F51B-426F-BDFA-2929D876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F21B54-1F01-4A59-9DD1-F465A1A3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F8CC40-18DC-45BE-B2E1-A3E976E6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48D243-4519-4FE4-8B60-5204F1A0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AE1AF2-BA0C-4C2E-A62B-F8007F4B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98790A-035F-438B-8003-DC49534A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1DFFF6-ABEF-45B9-9F89-85C25410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11BB24-2538-4B91-8833-4B5EBFB4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A4BC-8623-4BAB-B9A6-1D2B81D4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A312DA-8FB5-4030-BCE0-B42B0281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29E241-95A9-4C4A-8FC1-FD27630D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943E6E-AFD7-4E75-A46F-22376A47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C12E2C-7298-462F-827E-66DFF4B8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7F9EB5-854B-4AEE-A647-4324FF42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CD7917-4B73-423E-896A-294AF57E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5F1754-ECAB-405D-90E2-868E08F2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A5434B-87D0-4B45-AE6E-CEBD814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57B5A9-BE33-474D-8C0F-DFF84F54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1FA574-2371-439E-9D30-C6B9B2F1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819C4-7CCD-41D5-83FB-D98E62B9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7D9AF2-B0F4-4371-AFE2-32CBE595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A8E382-DD19-4A08-AEA4-AF4D855C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0E1300-4793-40B7-BCF4-73B033C6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5923AC-2230-4DC2-9A0E-CF2AA6C3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C6CAB7-B63E-41C2-B230-F72D7E3F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E1D789-DFE7-411D-B4A1-E65F9535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7947E8-AA88-4172-B9B7-02C339D6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743534-916D-44EC-BB6D-9A62FAE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4AFF57-CCAB-43DF-868F-D7E7E658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FE7B2D-05E7-4E10-850E-612ACB36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29A12-1531-4F7E-9428-A6268EA8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960531-EACC-4905-9F55-5E6F1DB9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B08243-9FE8-4800-92D7-0A195FAD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3E8E43-1F86-46B4-A6D7-5F86FB3C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93F3-F57A-428D-B92D-C4C2D51D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010A7-FB32-41FA-8673-4681F02E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8A7-4BA2-4361-BF17-9A3E80AD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B7FC-8FDB-4C0A-A5E5-53B44B2E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B8B50-668F-4EFD-B195-BE16A30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7A9C6-6B35-450F-B943-9B4411C7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E39F7-907C-45E9-A10F-89F25874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E635B-3916-4ACD-BF91-10BAC2E9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46132-F21A-42CD-A1AF-27C066C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7A055-B755-47A6-AC1E-A81364BA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1FE7-D603-41F0-BD9D-71827598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94DB9-EDEB-48C6-942A-FE3DCE64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0664B-8847-4FFD-B0D0-6D7D4E43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225-44D5-4154-AC87-B0758E3A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BCAE-70FC-4C81-A2DF-9DE277EA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C0D58-54E5-43B1-A832-10F92718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56E67-DF12-4043-8A82-41B11EC4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D5325-330B-4E3D-B38D-C213D1FB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42D83-53A7-46F4-B9D6-1C237533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94B1E-9D4C-4632-AAD9-0377D486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BA762-3AB5-445C-B6C4-A2688551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55C4C-ECEE-4DA9-BF67-42568D09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B758D-3D44-44CA-A2B5-23DF19CF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31EB-16A3-4631-BFBC-5F8F394D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29A-6F2D-4A86-BC6D-6E810494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12222-16D1-4E13-A775-539831D3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C4A76-75AF-418B-A11F-2C7AF4F1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EEB2D-F988-4FE3-9D60-7986682B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13A4B-4909-49AC-B111-34905EC8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B2627-67D2-49D4-9D78-C1FA244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27049-4D92-4A3A-A452-B26C9E53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F6FDC-4210-4A05-A6C0-FCD5415A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A5CEA-6212-4808-9101-64200C1E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53AC2-570A-4FAA-8CAD-8E4128B3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E2CCA-8A77-4E8B-B216-89B8B667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CCA-56FF-45C8-BD63-780D4484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E61AA-4092-43A6-8202-4C06EB35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C3970-0701-48E1-ADE7-402F3964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B1E70-CD57-4FFA-AE69-75E21179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EEEA6-D83E-43C8-A405-B939DC4C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3E9E-8459-4580-AB11-730C07EB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91180-14BE-4082-8B0C-A68FB8A2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D62AB-0758-4E96-BC6D-D62BB52D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9C9C1-B456-41CE-8C41-7E23E434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F5CB1-5DA1-4FFD-BFA9-AFC2D3A0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79C5C-740E-46E1-A8F6-06FCCB7F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6BB-3E72-4408-AB67-4E48FC10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ADCF8-9E88-4AF9-B964-2583FDA9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8EFB0-4BB1-4CD3-9644-15FE1D97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D5DC1-BD1B-4BC1-A023-8193E10A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EF118-AF22-4609-8DE7-C26AB9C8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84745-EFCA-474E-AE72-AB6BC6A7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4150C-58C0-4158-9FEA-49AA35BA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0FFDD-1175-4064-BD8F-63C34F79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9DC97-AE74-492B-A6DC-E6FF55C7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FB7A5-41E8-43AE-96B7-A36881BE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6743E-1898-42AF-A7E2-A92867E6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D26-8619-4296-AE28-B97866AB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A0BD4-DBDA-4E99-8DC8-8CFBDB97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70B74-AC53-48D1-AEDE-F0B1AD95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B379A-D29A-492C-B4F4-2BD7766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EAC79-D4F9-4DA9-9A46-01B90283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913BE-4456-4A78-87E4-D87E016C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55FD6-82A9-4765-A690-22EBB092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73826-8170-4CAC-8434-980E86CF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95787-65AC-411A-96A3-7ACA016A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E4F82-32EB-4E98-8F28-9C31A202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7F951-AD88-4432-BAE5-BC9537F5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F7B9-58A8-4A08-B3B2-210AB41208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8C29-1F84-49EF-AEA3-137D303260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EF02-6FBB-4AF3-856D-8BD385F796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76F4-3479-4970-A388-B2197A2894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31C8-8A66-4610-9A07-C8C3BC9CB1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>
            <a:off x="2314440" y="4255920"/>
            <a:ext cx="451008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D5F1-60DF-4D66-B8F9-D81DAA22E0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CBF4-CA0E-4192-A3AB-57E01767B3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AD86-A177-4FBE-86F4-3E6BF5C76E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2C9D-7AAE-47AB-BB4F-C86AAB4328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5" descr=""/>
          <p:cNvPicPr/>
          <p:nvPr/>
        </p:nvPicPr>
        <p:blipFill>
          <a:blip r:embed="rId2"/>
          <a:stretch/>
        </p:blipFill>
        <p:spPr>
          <a:xfrm>
            <a:off x="0" y="1397160"/>
            <a:ext cx="270972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6434280" y="1397160"/>
            <a:ext cx="270972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矩形 8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bfbfc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3D7A-5257-47A7-87FC-C1D42CAC4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863D-E819-4BD4-853A-14BEFC88F9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AC0E-BDB2-4627-A6DB-BDAE276284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2ABD-4133-4EB8-A7B5-B1CB3339F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4FC9-0CEA-4A24-87E0-4F7C33AFA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6D29-4B82-4256-9A7C-A7D4AD1E6F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图片 5" descr=""/>
          <p:cNvPicPr/>
          <p:nvPr/>
        </p:nvPicPr>
        <p:blipFill>
          <a:blip r:embed="rId2"/>
          <a:stretch/>
        </p:blipFill>
        <p:spPr>
          <a:xfrm>
            <a:off x="5622840" y="2193840"/>
            <a:ext cx="3292560" cy="2470320"/>
          </a:xfrm>
          <a:prstGeom prst="rect">
            <a:avLst/>
          </a:prstGeom>
          <a:ln w="0">
            <a:noFill/>
          </a:ln>
        </p:spPr>
      </p:pic>
      <p:sp>
        <p:nvSpPr>
          <p:cNvPr id="759" name="任意多边形 6"/>
          <p:cNvSpPr/>
          <p:nvPr/>
        </p:nvSpPr>
        <p:spPr>
          <a:xfrm flipH="1">
            <a:off x="0" y="0"/>
            <a:ext cx="5484960" cy="6858000"/>
          </a:xfrm>
          <a:custGeom>
            <a:avLst/>
            <a:gdLst/>
            <a:ahLst/>
            <a:rect l="l" t="t" r="r" b="b"/>
            <a:pathLst>
              <a:path w="7314000" h="6858000">
                <a:moveTo>
                  <a:pt x="1714500" y="0"/>
                </a:moveTo>
                <a:lnTo>
                  <a:pt x="7314000" y="0"/>
                </a:lnTo>
                <a:lnTo>
                  <a:pt x="7314000" y="6858000"/>
                </a:lnTo>
                <a:lnTo>
                  <a:pt x="0" y="6858000"/>
                </a:lnTo>
                <a:lnTo>
                  <a:pt x="1714500" y="0"/>
                </a:lnTo>
                <a:close/>
              </a:path>
            </a:pathLst>
          </a:cu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051A-6553-4EA0-A484-6F90BDB4DF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739C-8E02-4079-A69B-7B0B06D309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5F8D-EF1E-488D-B34F-0EBC1D033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227D-5B8A-46E8-B35F-27BBC9BFA4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02C2-1615-4E47-B358-9365493C26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AE22-0EB7-4B7D-A993-9880678E14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2296-1CA0-44F6-8863-8A430B739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9651-8FB5-4EC5-B232-A59B1A29D0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89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526F-A980-4E8F-852E-AB515CE130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4D54-2801-42B6-9B92-4E5D3C1AF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1B7D-B4AD-4100-A2E0-9B0D6BF938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77FC-D23F-438F-9A60-E4EF383FA5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8" name="直接连接符 8"/>
          <p:cNvSpPr/>
          <p:nvPr/>
        </p:nvSpPr>
        <p:spPr>
          <a:xfrm>
            <a:off x="4206960" y="3930480"/>
            <a:ext cx="730080" cy="0"/>
          </a:xfrm>
          <a:prstGeom prst="line">
            <a:avLst/>
          </a:prstGeom>
          <a:ln w="63360">
            <a:solidFill>
              <a:srgbClr val="3c7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6CF2-4966-4E11-A60B-C0CA3EE5CC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BE35-57A5-4A4D-841D-E202D7AC01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A002-5CB9-4E27-9355-99C313B8E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99FD-3A8A-46D6-8562-81DA1195A0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4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6228-C63B-4E6A-89C9-EDCA4DD087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E925-7BE3-48C8-B92B-A2C39A4E94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4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图片 6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BA44-94DD-43A0-8271-EB97018647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2D0-AF42-4F7B-8F4F-47C18C32C3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4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1156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7F08-368E-4B74-BC52-126CD623F8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27C7-FD39-4244-9EF6-7232D6EF8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1201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36D-5F81-45C8-8FCA-8B302C3288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261B-FDD9-457F-961F-9B36982CD8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6A59-6A22-48E6-9DED-7E61EF636F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矩形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5" name="图片 6" descr=""/>
          <p:cNvPicPr/>
          <p:nvPr/>
        </p:nvPicPr>
        <p:blipFill>
          <a:blip r:embed="rId2"/>
          <a:stretch/>
        </p:blipFill>
        <p:spPr>
          <a:xfrm>
            <a:off x="8604360" y="637236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1246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E6D3-3644-4893-A625-683CC372FE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D04E-A114-48D2-A368-998177590E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矩形 4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图片 6" descr=""/>
          <p:cNvPicPr/>
          <p:nvPr/>
        </p:nvPicPr>
        <p:blipFill>
          <a:blip r:embed="rId2"/>
          <a:stretch/>
        </p:blipFill>
        <p:spPr>
          <a:xfrm>
            <a:off x="7929720" y="5765760"/>
            <a:ext cx="1214280" cy="1092240"/>
          </a:xfrm>
          <a:prstGeom prst="rect">
            <a:avLst/>
          </a:prstGeom>
          <a:ln w="0">
            <a:noFill/>
          </a:ln>
        </p:spPr>
      </p:pic>
      <p:pic>
        <p:nvPicPr>
          <p:cNvPr id="1291" name="图片 8" descr=""/>
          <p:cNvPicPr/>
          <p:nvPr/>
        </p:nvPicPr>
        <p:blipFill>
          <a:blip r:embed="rId3"/>
          <a:stretch/>
        </p:blipFill>
        <p:spPr>
          <a:xfrm>
            <a:off x="0" y="5765760"/>
            <a:ext cx="1214280" cy="1092240"/>
          </a:xfrm>
          <a:prstGeom prst="rect">
            <a:avLst/>
          </a:prstGeom>
          <a:ln w="0">
            <a:noFill/>
          </a:ln>
        </p:spPr>
      </p:pic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9226-6817-4C18-A29A-222636DEFC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01BF-7B08-4CE3-AE4F-F760009290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69FA-78EC-471D-B4DA-F0865A9E33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9966-7279-4DE5-8B7C-9213C0AF7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0724-0340-4A6D-9823-9BEB927605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D385-136F-48CE-A97C-35F8E6C35D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FD56-A296-4901-84E4-AF10D78E17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2602-BCBD-4404-BA2E-B48F2F6394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828880" y="2034360"/>
            <a:ext cx="3029040" cy="15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49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2638080" y="3746160"/>
            <a:ext cx="32194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2828520" y="4385880"/>
            <a:ext cx="8938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 fontScale="56000"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5441760" y="4385880"/>
            <a:ext cx="3618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 fontScale="30000"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7" name="图片 40984" descr=""/>
          <p:cNvPicPr/>
          <p:nvPr/>
        </p:nvPicPr>
        <p:blipFill>
          <a:blip r:embed="rId1"/>
          <a:stretch/>
        </p:blipFill>
        <p:spPr>
          <a:xfrm>
            <a:off x="3219480" y="1125360"/>
            <a:ext cx="2019240" cy="390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0985" descr=""/>
          <p:cNvPicPr/>
          <p:nvPr/>
        </p:nvPicPr>
        <p:blipFill>
          <a:blip r:embed="rId2"/>
          <a:stretch/>
        </p:blipFill>
        <p:spPr>
          <a:xfrm>
            <a:off x="2828880" y="2293920"/>
            <a:ext cx="3029040" cy="4124520"/>
          </a:xfrm>
          <a:prstGeom prst="rect">
            <a:avLst/>
          </a:prstGeom>
          <a:ln w="0">
            <a:noFill/>
          </a:ln>
        </p:spPr>
      </p:pic>
      <p:sp>
        <p:nvSpPr>
          <p:cNvPr id="1339" name="矩形 40986"/>
          <p:cNvSpPr/>
          <p:nvPr/>
        </p:nvSpPr>
        <p:spPr>
          <a:xfrm>
            <a:off x="3862440" y="61246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图片 132097" descr=""/>
          <p:cNvPicPr/>
          <p:nvPr/>
        </p:nvPicPr>
        <p:blipFill>
          <a:blip r:embed="rId1"/>
          <a:stretch/>
        </p:blipFill>
        <p:spPr>
          <a:xfrm>
            <a:off x="333360" y="998640"/>
            <a:ext cx="80964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6" name="图片 131073" descr=""/>
          <p:cNvPicPr/>
          <p:nvPr/>
        </p:nvPicPr>
        <p:blipFill>
          <a:blip r:embed="rId1"/>
          <a:stretch/>
        </p:blipFill>
        <p:spPr>
          <a:xfrm>
            <a:off x="696960" y="952560"/>
            <a:ext cx="7572240" cy="4724280"/>
          </a:xfrm>
          <a:prstGeom prst="rect">
            <a:avLst/>
          </a:prstGeom>
          <a:ln w="0">
            <a:noFill/>
          </a:ln>
        </p:spPr>
      </p:pic>
      <p:sp>
        <p:nvSpPr>
          <p:cNvPr id="1427" name="矩形 131074"/>
          <p:cNvSpPr/>
          <p:nvPr/>
        </p:nvSpPr>
        <p:spPr>
          <a:xfrm>
            <a:off x="728640" y="2763720"/>
            <a:ext cx="56721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矩形 131075"/>
          <p:cNvSpPr/>
          <p:nvPr/>
        </p:nvSpPr>
        <p:spPr>
          <a:xfrm>
            <a:off x="2527200" y="3390840"/>
            <a:ext cx="43261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131076"/>
          <p:cNvSpPr/>
          <p:nvPr/>
        </p:nvSpPr>
        <p:spPr>
          <a:xfrm>
            <a:off x="708120" y="4592520"/>
            <a:ext cx="76755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矩形 131077"/>
          <p:cNvSpPr/>
          <p:nvPr/>
        </p:nvSpPr>
        <p:spPr>
          <a:xfrm>
            <a:off x="542880" y="5178600"/>
            <a:ext cx="767556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5" name="图片 130049" descr=""/>
          <p:cNvPicPr/>
          <p:nvPr/>
        </p:nvPicPr>
        <p:blipFill>
          <a:blip r:embed="rId1"/>
          <a:stretch/>
        </p:blipFill>
        <p:spPr>
          <a:xfrm>
            <a:off x="312840" y="958680"/>
            <a:ext cx="8086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图片 129025" descr=""/>
          <p:cNvPicPr/>
          <p:nvPr/>
        </p:nvPicPr>
        <p:blipFill>
          <a:blip r:embed="rId1"/>
          <a:stretch/>
        </p:blipFill>
        <p:spPr>
          <a:xfrm>
            <a:off x="563400" y="917640"/>
            <a:ext cx="7991640" cy="474336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9026"/>
          <p:cNvSpPr/>
          <p:nvPr/>
        </p:nvSpPr>
        <p:spPr>
          <a:xfrm>
            <a:off x="1057320" y="1058760"/>
            <a:ext cx="23432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9027"/>
          <p:cNvSpPr/>
          <p:nvPr/>
        </p:nvSpPr>
        <p:spPr>
          <a:xfrm>
            <a:off x="379440" y="1633680"/>
            <a:ext cx="819000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9028"/>
          <p:cNvSpPr/>
          <p:nvPr/>
        </p:nvSpPr>
        <p:spPr>
          <a:xfrm>
            <a:off x="963720" y="2846520"/>
            <a:ext cx="76453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9029"/>
          <p:cNvSpPr/>
          <p:nvPr/>
        </p:nvSpPr>
        <p:spPr>
          <a:xfrm>
            <a:off x="942840" y="3441600"/>
            <a:ext cx="76456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9030"/>
          <p:cNvSpPr/>
          <p:nvPr/>
        </p:nvSpPr>
        <p:spPr>
          <a:xfrm>
            <a:off x="922320" y="4068720"/>
            <a:ext cx="76453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9031"/>
          <p:cNvSpPr/>
          <p:nvPr/>
        </p:nvSpPr>
        <p:spPr>
          <a:xfrm>
            <a:off x="933480" y="4653000"/>
            <a:ext cx="76453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9032"/>
          <p:cNvSpPr/>
          <p:nvPr/>
        </p:nvSpPr>
        <p:spPr>
          <a:xfrm>
            <a:off x="933480" y="5278320"/>
            <a:ext cx="76453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图片 140289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77280" cy="3867120"/>
          </a:xfrm>
          <a:prstGeom prst="rect">
            <a:avLst/>
          </a:prstGeom>
          <a:ln w="0">
            <a:noFill/>
          </a:ln>
        </p:spPr>
      </p:pic>
      <p:sp>
        <p:nvSpPr>
          <p:cNvPr id="1345" name="矩形 140290"/>
          <p:cNvSpPr/>
          <p:nvPr/>
        </p:nvSpPr>
        <p:spPr>
          <a:xfrm>
            <a:off x="2176560" y="1838160"/>
            <a:ext cx="5554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291"/>
          <p:cNvSpPr/>
          <p:nvPr/>
        </p:nvSpPr>
        <p:spPr>
          <a:xfrm>
            <a:off x="3276720" y="1838160"/>
            <a:ext cx="8236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40292"/>
          <p:cNvSpPr/>
          <p:nvPr/>
        </p:nvSpPr>
        <p:spPr>
          <a:xfrm>
            <a:off x="4818240" y="1838160"/>
            <a:ext cx="10396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40293"/>
          <p:cNvSpPr/>
          <p:nvPr/>
        </p:nvSpPr>
        <p:spPr>
          <a:xfrm>
            <a:off x="3164040" y="2290680"/>
            <a:ext cx="8236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40294"/>
          <p:cNvSpPr/>
          <p:nvPr/>
        </p:nvSpPr>
        <p:spPr>
          <a:xfrm>
            <a:off x="6667560" y="2290680"/>
            <a:ext cx="8236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40295"/>
          <p:cNvSpPr/>
          <p:nvPr/>
        </p:nvSpPr>
        <p:spPr>
          <a:xfrm>
            <a:off x="3513240" y="2722680"/>
            <a:ext cx="82368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40296"/>
          <p:cNvSpPr/>
          <p:nvPr/>
        </p:nvSpPr>
        <p:spPr>
          <a:xfrm>
            <a:off x="1325520" y="3174840"/>
            <a:ext cx="106992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40297"/>
          <p:cNvSpPr/>
          <p:nvPr/>
        </p:nvSpPr>
        <p:spPr>
          <a:xfrm>
            <a:off x="7129440" y="360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40298"/>
          <p:cNvSpPr/>
          <p:nvPr/>
        </p:nvSpPr>
        <p:spPr>
          <a:xfrm>
            <a:off x="1776240" y="4068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40299"/>
          <p:cNvSpPr/>
          <p:nvPr/>
        </p:nvSpPr>
        <p:spPr>
          <a:xfrm>
            <a:off x="6573960" y="4068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40300"/>
          <p:cNvSpPr/>
          <p:nvPr/>
        </p:nvSpPr>
        <p:spPr>
          <a:xfrm>
            <a:off x="1303200" y="45212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0" name="图片 139265" descr=""/>
          <p:cNvPicPr/>
          <p:nvPr/>
        </p:nvPicPr>
        <p:blipFill>
          <a:blip r:embed="rId1"/>
          <a:stretch/>
        </p:blipFill>
        <p:spPr>
          <a:xfrm>
            <a:off x="326880" y="952560"/>
            <a:ext cx="8515440" cy="449568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139266" descr=""/>
          <p:cNvPicPr/>
          <p:nvPr/>
        </p:nvPicPr>
        <p:blipFill>
          <a:blip r:embed="rId2"/>
          <a:stretch/>
        </p:blipFill>
        <p:spPr>
          <a:xfrm>
            <a:off x="252360" y="5600880"/>
            <a:ext cx="8562960" cy="761760"/>
          </a:xfrm>
          <a:prstGeom prst="rect">
            <a:avLst/>
          </a:prstGeom>
          <a:ln w="0">
            <a:noFill/>
          </a:ln>
        </p:spPr>
      </p:pic>
      <p:sp>
        <p:nvSpPr>
          <p:cNvPr id="1362" name="矩形 139267"/>
          <p:cNvSpPr/>
          <p:nvPr/>
        </p:nvSpPr>
        <p:spPr>
          <a:xfrm>
            <a:off x="8228160" y="18288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9268"/>
          <p:cNvSpPr/>
          <p:nvPr/>
        </p:nvSpPr>
        <p:spPr>
          <a:xfrm>
            <a:off x="8218440" y="40482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9269"/>
          <p:cNvSpPr/>
          <p:nvPr/>
        </p:nvSpPr>
        <p:spPr>
          <a:xfrm>
            <a:off x="8207280" y="56102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9" name="图片 138241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477280" cy="4753080"/>
          </a:xfrm>
          <a:prstGeom prst="rect">
            <a:avLst/>
          </a:prstGeom>
          <a:ln w="0">
            <a:noFill/>
          </a:ln>
        </p:spPr>
      </p:pic>
      <p:sp>
        <p:nvSpPr>
          <p:cNvPr id="1370" name="矩形 138242"/>
          <p:cNvSpPr/>
          <p:nvPr/>
        </p:nvSpPr>
        <p:spPr>
          <a:xfrm>
            <a:off x="5084640" y="8524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8243"/>
          <p:cNvSpPr/>
          <p:nvPr/>
        </p:nvSpPr>
        <p:spPr>
          <a:xfrm>
            <a:off x="8207280" y="8524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8244"/>
          <p:cNvSpPr/>
          <p:nvPr/>
        </p:nvSpPr>
        <p:spPr>
          <a:xfrm>
            <a:off x="1900080" y="2835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8245"/>
          <p:cNvSpPr/>
          <p:nvPr/>
        </p:nvSpPr>
        <p:spPr>
          <a:xfrm>
            <a:off x="3718080" y="2835360"/>
            <a:ext cx="514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8246"/>
          <p:cNvSpPr/>
          <p:nvPr/>
        </p:nvSpPr>
        <p:spPr>
          <a:xfrm>
            <a:off x="5629320" y="2835360"/>
            <a:ext cx="514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8247"/>
          <p:cNvSpPr/>
          <p:nvPr/>
        </p:nvSpPr>
        <p:spPr>
          <a:xfrm>
            <a:off x="1920960" y="3317760"/>
            <a:ext cx="514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8248"/>
          <p:cNvSpPr/>
          <p:nvPr/>
        </p:nvSpPr>
        <p:spPr>
          <a:xfrm>
            <a:off x="3956040" y="3317760"/>
            <a:ext cx="514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8249"/>
          <p:cNvSpPr/>
          <p:nvPr/>
        </p:nvSpPr>
        <p:spPr>
          <a:xfrm>
            <a:off x="658800" y="4983120"/>
            <a:ext cx="6350040" cy="7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图片 137217" descr=""/>
          <p:cNvPicPr/>
          <p:nvPr/>
        </p:nvPicPr>
        <p:blipFill>
          <a:blip r:embed="rId1"/>
          <a:stretch/>
        </p:blipFill>
        <p:spPr>
          <a:xfrm>
            <a:off x="299880" y="880920"/>
            <a:ext cx="8087040" cy="4257720"/>
          </a:xfrm>
          <a:prstGeom prst="rect">
            <a:avLst/>
          </a:prstGeom>
          <a:ln w="0">
            <a:noFill/>
          </a:ln>
        </p:spPr>
      </p:pic>
      <p:sp>
        <p:nvSpPr>
          <p:cNvPr id="1383" name="矩形 137218"/>
          <p:cNvSpPr/>
          <p:nvPr/>
        </p:nvSpPr>
        <p:spPr>
          <a:xfrm>
            <a:off x="7613640" y="4140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图片 136193" descr=""/>
          <p:cNvPicPr/>
          <p:nvPr/>
        </p:nvPicPr>
        <p:blipFill>
          <a:blip r:embed="rId1"/>
          <a:stretch/>
        </p:blipFill>
        <p:spPr>
          <a:xfrm>
            <a:off x="336600" y="855720"/>
            <a:ext cx="8039160" cy="4638600"/>
          </a:xfrm>
          <a:prstGeom prst="rect">
            <a:avLst/>
          </a:prstGeom>
          <a:ln w="0">
            <a:noFill/>
          </a:ln>
        </p:spPr>
      </p:pic>
      <p:sp>
        <p:nvSpPr>
          <p:cNvPr id="1389" name="矩形 136194"/>
          <p:cNvSpPr/>
          <p:nvPr/>
        </p:nvSpPr>
        <p:spPr>
          <a:xfrm>
            <a:off x="7674120" y="19321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6195"/>
          <p:cNvSpPr/>
          <p:nvPr/>
        </p:nvSpPr>
        <p:spPr>
          <a:xfrm>
            <a:off x="7653240" y="38941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图片 135169" descr=""/>
          <p:cNvPicPr/>
          <p:nvPr/>
        </p:nvPicPr>
        <p:blipFill>
          <a:blip r:embed="rId1"/>
          <a:stretch/>
        </p:blipFill>
        <p:spPr>
          <a:xfrm>
            <a:off x="347760" y="927000"/>
            <a:ext cx="8067600" cy="5562720"/>
          </a:xfrm>
          <a:prstGeom prst="rect">
            <a:avLst/>
          </a:prstGeom>
          <a:ln w="0">
            <a:noFill/>
          </a:ln>
        </p:spPr>
      </p:pic>
      <p:sp>
        <p:nvSpPr>
          <p:cNvPr id="1396" name="矩形 135170"/>
          <p:cNvSpPr/>
          <p:nvPr/>
        </p:nvSpPr>
        <p:spPr>
          <a:xfrm>
            <a:off x="2373480" y="2290680"/>
            <a:ext cx="668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35171"/>
          <p:cNvSpPr/>
          <p:nvPr/>
        </p:nvSpPr>
        <p:spPr>
          <a:xfrm>
            <a:off x="6400800" y="2290680"/>
            <a:ext cx="668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35172"/>
          <p:cNvSpPr/>
          <p:nvPr/>
        </p:nvSpPr>
        <p:spPr>
          <a:xfrm>
            <a:off x="4643280" y="4900680"/>
            <a:ext cx="668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3" name="图片 134145" descr=""/>
          <p:cNvPicPr/>
          <p:nvPr/>
        </p:nvPicPr>
        <p:blipFill>
          <a:blip r:embed="rId1"/>
          <a:stretch/>
        </p:blipFill>
        <p:spPr>
          <a:xfrm>
            <a:off x="233280" y="873000"/>
            <a:ext cx="8143920" cy="4857840"/>
          </a:xfrm>
          <a:prstGeom prst="rect">
            <a:avLst/>
          </a:prstGeom>
          <a:ln w="0">
            <a:noFill/>
          </a:ln>
        </p:spPr>
      </p:pic>
      <p:sp>
        <p:nvSpPr>
          <p:cNvPr id="1404" name="矩形 134146"/>
          <p:cNvSpPr/>
          <p:nvPr/>
        </p:nvSpPr>
        <p:spPr>
          <a:xfrm>
            <a:off x="811080" y="3483000"/>
            <a:ext cx="7707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34147"/>
          <p:cNvSpPr/>
          <p:nvPr/>
        </p:nvSpPr>
        <p:spPr>
          <a:xfrm>
            <a:off x="687240" y="4160880"/>
            <a:ext cx="7707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34148"/>
          <p:cNvSpPr/>
          <p:nvPr/>
        </p:nvSpPr>
        <p:spPr>
          <a:xfrm>
            <a:off x="606600" y="4818240"/>
            <a:ext cx="6053040" cy="88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图片 133121" descr=""/>
          <p:cNvPicPr/>
          <p:nvPr/>
        </p:nvPicPr>
        <p:blipFill>
          <a:blip r:embed="rId1"/>
          <a:stretch/>
        </p:blipFill>
        <p:spPr>
          <a:xfrm>
            <a:off x="216000" y="912960"/>
            <a:ext cx="8001000" cy="307656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33122" descr=""/>
          <p:cNvPicPr/>
          <p:nvPr/>
        </p:nvPicPr>
        <p:blipFill>
          <a:blip r:embed="rId2"/>
          <a:stretch/>
        </p:blipFill>
        <p:spPr>
          <a:xfrm>
            <a:off x="993600" y="4200480"/>
            <a:ext cx="7410600" cy="2343240"/>
          </a:xfrm>
          <a:prstGeom prst="rect">
            <a:avLst/>
          </a:prstGeom>
          <a:ln w="0">
            <a:noFill/>
          </a:ln>
        </p:spPr>
      </p:pic>
      <p:sp>
        <p:nvSpPr>
          <p:cNvPr id="1413" name="矩形 133123"/>
          <p:cNvSpPr/>
          <p:nvPr/>
        </p:nvSpPr>
        <p:spPr>
          <a:xfrm>
            <a:off x="1006560" y="4952880"/>
            <a:ext cx="75009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133124"/>
          <p:cNvSpPr/>
          <p:nvPr/>
        </p:nvSpPr>
        <p:spPr>
          <a:xfrm>
            <a:off x="4078440" y="44179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矩形 133125"/>
          <p:cNvSpPr/>
          <p:nvPr/>
        </p:nvSpPr>
        <p:spPr>
          <a:xfrm>
            <a:off x="1089000" y="5578560"/>
            <a:ext cx="3473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矩形 133126"/>
          <p:cNvSpPr/>
          <p:nvPr/>
        </p:nvSpPr>
        <p:spPr>
          <a:xfrm>
            <a:off x="1036800" y="6154560"/>
            <a:ext cx="34732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8:06:17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